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54C-30E1-42E5-8B9D-52BB869C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412-6FBF-4B18-98CE-E6D1E7C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D93-EF2E-43A4-AB57-849E9910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B2B-4E88-410B-B066-9091AE7C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A0F-DEDB-4009-AC6E-7CEA293B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327-71C5-4957-8D36-3E129B39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B32-9231-4B22-B383-10A3C04A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C06-B9F0-417F-A4C6-528C018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A31-3F7E-4590-8724-9F6B8AB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23E-9DA2-40DD-B083-F1B34FB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4EF-6925-40DE-8501-B8EA0BC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DC2-796F-4DBA-8718-3406346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D55B-B545-4B02-88EA-293D2F71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1840" y="-687240"/>
            <a:ext cx="7323120" cy="105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9360" y="-85716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4:35:43Z</dcterms:created>
  <dc:creator>jaime saavedra</dc:creator>
  <dc:description/>
  <dc:language>en-US</dc:language>
  <cp:lastModifiedBy>jsd</cp:lastModifiedBy>
  <cp:lastPrinted>2001-12-06T15:51:03Z</cp:lastPrinted>
  <dcterms:modified xsi:type="dcterms:W3CDTF">2002-05-11T02:24:35Z</dcterms:modified>
  <cp:revision>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TDT HARDWARE MANUAL</vt:lpwstr>
  </property>
  <property fmtid="{D5CDD505-2E9C-101B-9397-08002B2CF9AE}" pid="9" name="LinkColor">
    <vt:r8>16711782</vt:r8>
  </property>
  <property fmtid="{D5CDD505-2E9C-101B-9397-08002B2CF9AE}" pid="10" name="MailAddress">
    <vt:lpwstr>jsaavedra@entel.c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manuales TDT US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